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0F6-E52F-4B76-BBF6-F34C194F5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w everyone should be familiar with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plit. eg frame-based subsumed by OWL. relational subsumed by deductive dbs, logic based. RDF could be a semi-structured format. is SS meaningfu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later for ‘abstraction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: sqldb fine for MODs, not for O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ring in other issues lat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O type example: deafness, hearing im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in real life we want want to know what EI is part_of, and its details; eg a fly or fly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 entailment for 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constraints + OWA hindr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SIG; BioRDF; Eric; Unipr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we are the NC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deal wit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relation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ways of representing phenos using generic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3F3-9DAE-4506-BC07-1E5C2971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ED1-ADE8-4FCA-9BED-B869E61F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742-C71C-4528-B629-D17D2093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B1F-0D9F-416E-907A-CD2A491F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491-E4CA-4A25-A40C-2673FEB5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6E9-1883-4147-BD94-288A4F72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526-8BFB-4339-8199-556B85FD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AB3-884B-4616-980E-24C921C8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B04-1BB1-4A51-9A93-5C69CD3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D3D-5DF1-44F0-BAEE-09661CF0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0F5-DCB2-4C46-8EAF-E50D677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9EB-C81F-4CD6-8D6D-C09C76A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C86-F2DF-4A97-847C-28B1233D8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-download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hyperlink" Target="http://yuri.lbl.gov/amigo/obd" TargetMode="External"/><Relationship Id="rId3" Type="http://schemas.openxmlformats.org/officeDocument/2006/relationships/hyperlink" Target="http://spade.lbl.gov:8080/sesame/actionFrameset.jsp?repository=mem-rdfs-db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27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3 Driving Biological Projec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B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 to huma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y ontologies to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ply ontologies to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capture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mo tomorrow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 tool requirements from UCS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(OB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--aim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6470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833960" y="517680"/>
            <a:ext cx="7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5296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57280" y="746280"/>
            <a:ext cx="9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mon/shared domain specific mode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886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im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disease g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must support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ranu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omain specific 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B, ZF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 to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 dise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re 2 will help define common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CS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isting ontology-friendly schema - trialban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data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ffff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bra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gut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tail f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kidney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idface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66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79560"/>
            <a:ext cx="77724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ntative vs qual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mposing entity and attribut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/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place, space an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better treatment of abs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CSHL Pheno meeting 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, more detailed formal presentation (avail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 to mention genotypes, environments, provenance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clinical tri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 already described using frame-based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ther modeling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integrate more with other OBD data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only show parts relevant to OBD/BioPort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DBPs and use c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will contain a variety of general types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ing is expen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existing models where appropri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ole must be cohesive and 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st of this talk focuses on the pheno DBPs for illustrative purpo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rosophila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Genome Projec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nish the sequence of the euchromatic genome of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elanogaste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ed biological important features of this sequ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duced gene disruptions using P element-mediated mutagenesi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ull length sequencing and expression characterization of a cDNA for every ge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Gill Sans"/>
              </a:rPr>
              <a:t>Developing informatics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framewor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3526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data: underlying formalism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is expressed with modeling langu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/SQ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i-structured, 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ject-centric (UML, frame-based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scription logic: e.g. 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rst-order logic: e.g. C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ural language descrip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</a:t>
            </a:r>
            <a:r>
              <a:rPr b="0" i="1" lang="en-US" sz="2800" spc="-1" strike="noStrike">
                <a:solidFill>
                  <a:srgbClr val="80ff00"/>
                </a:solidFill>
                <a:latin typeface="Gill Sans"/>
              </a:rPr>
              <a:t>shoul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independent of language it is expressed 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exchange language: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is suited for data exchan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can drive software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s programmatic data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D can generate U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osed world assumption i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f Ruttenberg et 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ture techn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ll understood by developers, MO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OBD uses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-geno-pheno-xml (aka pheno-xml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tually multiple modular compon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schema: ‘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vironment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anc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f: gene ontology association fi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need for ClinicalTrials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pheno-x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080" y="1752480"/>
            <a:ext cx="8410320" cy="4606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 id="ZFIN:tm84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name&gt;ZFIN:tm84&lt;/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entity type="ZDB-ANAT-010921-528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quality </a:t>
            </a:r>
            <a:r>
              <a:rPr b="0" i="1" lang="en-US" sz="2000" spc="-1" strike="noStrike">
                <a:solidFill>
                  <a:srgbClr val="f0e500"/>
                </a:solidFill>
                <a:latin typeface="Courier New"/>
              </a:rPr>
              <a:t>type=“PATO:……”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tate type="PATO:0000636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time_range type="ZDB-STAGE-010723-12"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ta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qual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ent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QL Datab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storage, management and query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MODs use SQL db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ots of advanta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calable, standard QL, mature, API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ure relational model is reasonably form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XML/SQL more or less compati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w impedance mismatc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s for geno-pheno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400" cy="55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lready have schema: </a:t>
            </a:r>
            <a:r>
              <a:rPr b="0" lang="en-US" sz="2800" spc="-1" strike="noStrike">
                <a:solidFill>
                  <a:srgbClr val="ffff00"/>
                </a:solidFill>
                <a:latin typeface="Lucida Grande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by many MODs (eg F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 are ‘chado compliant’ (eg ZF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mi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logen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module needs upda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driven by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blem solved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have two mature, complementary technologies, and can define schemas for our model in an appropriate formalism for eac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Is this enough to work with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ssu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much more than geno-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uture DBP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other NCB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y data expressed in an ontology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ftware and schema development expensiv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agility in face of schema evol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velopment gets bogged down in data exchange iss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jor issu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and XPath work great for ‘traditional’ data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are too low level for ontology-centric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ck of infer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way to directly express ontology constrai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931080" y="2370240"/>
            <a:ext cx="1582560" cy="2813400"/>
            <a:chOff x="6931080" y="2370240"/>
            <a:chExt cx="1582560" cy="2813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931080" y="2370240"/>
              <a:ext cx="1582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62200" y="4602240"/>
              <a:ext cx="111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im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0360" y="2362320"/>
            <a:ext cx="1457280" cy="2813400"/>
            <a:chOff x="630360" y="2362320"/>
            <a:chExt cx="1457280" cy="28134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30360" y="2362320"/>
              <a:ext cx="14572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79400" y="4594320"/>
              <a:ext cx="11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Chri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is here from NCBO-Berkele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24360" y="2362320"/>
            <a:ext cx="1476360" cy="2813400"/>
            <a:chOff x="4824360" y="2362320"/>
            <a:chExt cx="1476360" cy="28134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82436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979880" y="459432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Mar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17640" y="2362320"/>
            <a:ext cx="1476360" cy="2813400"/>
            <a:chOff x="2717640" y="2362320"/>
            <a:chExt cx="1476360" cy="2813400"/>
          </a:xfrm>
        </p:grpSpPr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71764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00240" y="4594320"/>
              <a:ext cx="90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h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se cases from previous experience: Ami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TF genes”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closur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gene products localised to endoplasmic reticulum” (part_of closure, over is_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ur solution (AmiGO &amp; go-sqld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ute transitive closure over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relations in d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sort of) works for GO (for now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fresh proble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losive for tangled DA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requires more ontological awar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genic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g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ansitive_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types of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post- compose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MPO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AO+PAT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Entity+Spatial qualifi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ver either should be interchangeab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1360" y="1756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lution: more expressive formalis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Ls and APIs should provide and abstract away common ontology oper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e of programming, optimis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web’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DF + RDFS + Owl [ lite + DL ] + extr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ts to choose from, emerging standar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atible with Obo v1.2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ductive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perset of relational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om Prolog to full C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phenotypes as RDF/OWL or Obo instanc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17200" y="209232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ass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06760" y="48513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4520" y="58672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97680" y="58672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query in </a:t>
            </a:r>
            <a:r>
              <a:rPr b="1" lang="en-US" sz="4400" spc="-1" strike="noStrike">
                <a:solidFill>
                  <a:srgbClr val="e3ebf1"/>
                </a:solidFill>
                <a:latin typeface="Lucida Grande"/>
              </a:rPr>
              <a:t>SeRQ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21840" y="2438280"/>
            <a:ext cx="8227440" cy="2527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ECT DISTIN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I, ET, OrgI, QI, QT,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{EI} rdf:type {ET} rdfs:label {E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part_of {OrgI} rdf:type {Tax} rdfs:label {Tax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has_quality {QI} rdf:type {QT} rdfs:label {QN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E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ing ve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TaxN) = ”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thropod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Q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hapeValu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160" y="16765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the wing ve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280" y="5486400"/>
            <a:ext cx="65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ses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wing vein L2”, “branch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51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 over pure SQ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ontolog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he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ts encoded in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.g. certain quality types only applicable to certain entity 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gile development - fast database integ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 modeling construc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ansitivity, subsumption, intersection,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werful QLs and APIs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(technical) interoperation ‘for fre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R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World Assumption (maybe a hindrance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y be slower than SQ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..but in-memory execution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ack of matu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ew technology.. but has a LOT of momentu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nd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re RDF triples appropriat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herent difficulties modeling ti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allows n-ary relations/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ybrid 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mWeb dbs are commonly layered over SQL D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can have the best of both worl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View lay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pping between Obo/OWL model and domain-specific 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optionally) materialized for spe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t applications use appropriate lay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5360" y="193680"/>
            <a:ext cx="635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: OBD-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sa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en source ‘triple store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Je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 used in Protégé-OW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orage layer 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ysql/postgresql generic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-memo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k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8153280" cy="6810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2132640"/>
            <a:ext cx="38862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Chri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76920" y="2895120"/>
            <a:ext cx="403848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adFly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l libraries for all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303960"/>
            <a:ext cx="4038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ata archit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 Sesame: current datase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FIN &amp; FB : EAV trial 2003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st ortholog 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B ‘simple phenotype’ alle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 legacy phenotype data, automatically parsed to EAV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: AOs, PATO, Cell, G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cel &amp; flatfiles-&gt;phen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WL from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www.fruitfly.org/~cjm/obo-downlo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ba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ethod: ocelot-&gt;ob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uman orthologs and omi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echnology Evaluation: 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case query 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liminary conclus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layering is terri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-memory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misa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 triple store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 to date results on wik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smi.stanford.edu/projects/cbio/mwiki-internal/index.php/RDF_Sesame_Demo_Benchmark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 to test OWL-DL entail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dataset required for full eval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effort: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ub-semweb-lifesci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li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allel development: an OBD Prot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itiated prior to OBD-Sesa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mple deductive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log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-like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be views on Obo/OWL 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migo-clone user interf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pid prototyp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urrent data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s obd-sesame, plus C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ivial to drop in mo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logic que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505800" y="2735280"/>
            <a:ext cx="4935600" cy="2288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heres(QI,EI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QI,Q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QT,shape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EI,ETP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rt_o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ETP,E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ET,’head capsul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1080" y="1828800"/>
            <a:ext cx="70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som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f the head caps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440" y="511344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prolo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arista lateral”, “irregular shap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TO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release ver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Obo/OWL map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specific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- BioPortal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will it work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ersioning and reconciling chan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cide on ontology versioning fir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dependenc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MLS into OBO-si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MA accessibil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es-centric AO alignments (XSPAN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t meeting on AO develop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 meeting on 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pheno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MIM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isc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LP for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pheno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 on evolutionary phenotype charact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mbridge NLP pro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be used to ‘prime’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composing MP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 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ill Sans"/>
              </a:rPr>
              <a:t>def=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has_qualit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cus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ll SemWeb dbs work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peri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-based model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ontology is the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ortance o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s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per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ttp://yuri.lbl.gov/amigo/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2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3"/>
              </a:rPr>
              <a:t>http://spade.lbl.gov:8080/sesame/actionFrameset.jsp?repository=mem-rdfs-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2520" cy="644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08000" y="2103480"/>
            <a:ext cx="7239240" cy="4761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33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hu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040" y="837720"/>
            <a:ext cx="4800600" cy="146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,ImaGO &amp;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e Pipe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1828800"/>
            <a:ext cx="37339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ev &amp; Data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Mar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1640" y="12949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ollo Genome Annotation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05596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20034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205236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3505320"/>
            <a:ext cx="203040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0" y="2284920"/>
            <a:ext cx="4038480" cy="86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Phenote and other OBD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9520" y="800280"/>
            <a:ext cx="4251240" cy="5441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i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6970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h region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of entire Drosophila Geno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ject manager and coordinator nonpareil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334120"/>
            <a:ext cx="380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Associate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 2 aims, refresh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models f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ing framewo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syste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based vs ‘SemWeb’ db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gre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3-03T20:01:16Z</dcterms:modified>
  <cp:revision>565</cp:revision>
  <dc:subject/>
  <dc:title>NCBIO-Berkeley</dc:title>
</cp:coreProperties>
</file>